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.gif" ContentType="image/gi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5FC6-38AB-4A79-830B-E483F51C5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7DFB-D3DD-4FBD-B13B-440700EB3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2850-578B-4099-805B-36DBFD092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4A22-1070-4D15-AE30-5008EE9B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B379-1433-40C3-9D16-4EA3C9B7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068-DFB4-4733-8CB4-BF790B37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D7F5-4531-4D7D-AC0F-C88345DD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57B4-C232-4AD2-A163-9DFA47BF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011-5863-408E-8F04-F2E239D5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A563-954E-4E0D-A5FA-60F2BB82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449-CE14-4EB7-84BD-8595290B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B47-B7EC-40B2-8363-13C51312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FB7-5E06-4F23-A314-AEDE5DC5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CF51-E81F-4838-9CB7-A3CB63D4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FF6-6B57-46B4-B8E2-C5C0D2A2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74F3-5AB7-49B9-995F-DD2233BA75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2"/>
          <p:cNvSpPr/>
          <p:nvPr/>
        </p:nvSpPr>
        <p:spPr>
          <a:xfrm>
            <a:off x="304920" y="2133720"/>
            <a:ext cx="8391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4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．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元二次方程根与系数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C:\Documents and Settings\Administrator\桌面\1121315675897.gif"/>
          <p:cNvPicPr/>
          <p:nvPr/>
        </p:nvPicPr>
        <p:blipFill>
          <a:blip r:embed="rId1"/>
          <a:stretch/>
        </p:blipFill>
        <p:spPr>
          <a:xfrm flipH="1">
            <a:off x="7751880" y="4056120"/>
            <a:ext cx="1101600" cy="2658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1"/>
          <p:cNvSpPr/>
          <p:nvPr/>
        </p:nvSpPr>
        <p:spPr>
          <a:xfrm>
            <a:off x="3719880" y="762120"/>
            <a:ext cx="17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一元二次方程根与系数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"/>
          <p:cNvSpPr/>
          <p:nvPr/>
        </p:nvSpPr>
        <p:spPr>
          <a:xfrm>
            <a:off x="1143000" y="1984320"/>
            <a:ext cx="7391520" cy="24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方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两个根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解答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一个根，求方程另一个根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752480" y="2465280"/>
            <a:ext cx="13613040" cy="506520"/>
          </a:xfrm>
          <a:prstGeom prst="rect">
            <a:avLst/>
          </a:prstGeom>
          <a:ln w="0">
            <a:noFill/>
          </a:ln>
        </p:spPr>
      </p:pic>
      <p:sp>
        <p:nvSpPr>
          <p:cNvPr id="124" name="矩形 3"/>
          <p:cNvSpPr/>
          <p:nvPr/>
        </p:nvSpPr>
        <p:spPr>
          <a:xfrm>
            <a:off x="3354480" y="2465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1173240" y="4343400"/>
            <a:ext cx="9037440" cy="1235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"/>
          <p:cNvSpPr/>
          <p:nvPr/>
        </p:nvSpPr>
        <p:spPr>
          <a:xfrm>
            <a:off x="3719880" y="762120"/>
            <a:ext cx="17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一元二次方程根与系数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"/>
          <p:cNvSpPr/>
          <p:nvPr/>
        </p:nvSpPr>
        <p:spPr>
          <a:xfrm>
            <a:off x="1447920" y="2057400"/>
            <a:ext cx="647676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一元二次方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两个实数根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8077320" cy="833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"/>
          <p:cNvSpPr/>
          <p:nvPr/>
        </p:nvSpPr>
        <p:spPr>
          <a:xfrm>
            <a:off x="3719880" y="762120"/>
            <a:ext cx="17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一元二次方程根与系数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"/>
          <p:cNvSpPr/>
          <p:nvPr/>
        </p:nvSpPr>
        <p:spPr>
          <a:xfrm>
            <a:off x="723960" y="1523880"/>
            <a:ext cx="769608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关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一元二次方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(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)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两实数根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取值范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取最小值时，求相应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，并求出最小值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57200" y="2955960"/>
            <a:ext cx="8572680" cy="681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374760" y="4648320"/>
            <a:ext cx="80578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"/>
          <p:cNvSpPr/>
          <p:nvPr/>
        </p:nvSpPr>
        <p:spPr>
          <a:xfrm>
            <a:off x="3719880" y="762120"/>
            <a:ext cx="17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一元二次方程根与系数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800280" y="1600200"/>
            <a:ext cx="7543800" cy="21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一元二次方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6)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a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两个实数根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否存在实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使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成立？若存在，求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；若不存在，请说明理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)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负整数的实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整数值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533520" y="4086360"/>
            <a:ext cx="8229600" cy="1465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"/>
          <p:cNvSpPr/>
          <p:nvPr/>
        </p:nvSpPr>
        <p:spPr>
          <a:xfrm>
            <a:off x="3719880" y="762120"/>
            <a:ext cx="17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一元二次方程根与系数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10649160" cy="1137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2"/>
          <p:cNvSpPr/>
          <p:nvPr/>
        </p:nvSpPr>
        <p:spPr>
          <a:xfrm>
            <a:off x="1014480" y="3475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要使其为负整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则只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"/>
          <p:cNvSpPr/>
          <p:nvPr/>
        </p:nvSpPr>
        <p:spPr>
          <a:xfrm>
            <a:off x="3719880" y="762120"/>
            <a:ext cx="17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一元二次方程根与系数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5分钟预习导航"/>
          <p:cNvPicPr/>
          <p:nvPr/>
        </p:nvPicPr>
        <p:blipFill>
          <a:blip r:embed="rId1"/>
          <a:stretch/>
        </p:blipFill>
        <p:spPr>
          <a:xfrm>
            <a:off x="2225520" y="1994040"/>
            <a:ext cx="4343400" cy="457200"/>
          </a:xfrm>
          <a:prstGeom prst="rect">
            <a:avLst/>
          </a:prstGeom>
          <a:ln w="0">
            <a:noFill/>
          </a:ln>
        </p:spPr>
      </p:pic>
      <p:sp>
        <p:nvSpPr>
          <p:cNvPr id="88" name="矩形 2"/>
          <p:cNvSpPr/>
          <p:nvPr/>
        </p:nvSpPr>
        <p:spPr>
          <a:xfrm>
            <a:off x="685800" y="2666880"/>
            <a:ext cx="701028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(a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两个根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那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·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应用根与系数关系时应注意两个条件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)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2)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2225520" y="3276720"/>
            <a:ext cx="7445520" cy="782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4191120" y="3276720"/>
            <a:ext cx="10518480" cy="782640"/>
          </a:xfrm>
          <a:prstGeom prst="rect">
            <a:avLst/>
          </a:prstGeom>
          <a:ln w="0">
            <a:noFill/>
          </a:ln>
        </p:spPr>
      </p:pic>
      <p:sp>
        <p:nvSpPr>
          <p:cNvPr id="91" name="矩形 3"/>
          <p:cNvSpPr/>
          <p:nvPr/>
        </p:nvSpPr>
        <p:spPr>
          <a:xfrm>
            <a:off x="1681920" y="493380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方程二次项系数不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1820880" y="55054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4ac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≥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1"/>
          <p:cNvSpPr/>
          <p:nvPr/>
        </p:nvSpPr>
        <p:spPr>
          <a:xfrm>
            <a:off x="3719880" y="762120"/>
            <a:ext cx="17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一元二次方程根与系数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"/>
          <p:cNvSpPr/>
          <p:nvPr/>
        </p:nvSpPr>
        <p:spPr>
          <a:xfrm>
            <a:off x="685800" y="1676520"/>
            <a:ext cx="754380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013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武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一元二次方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两个根，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一元二次方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两根，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列一元二次方程两实根和为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3120120" y="22096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1678680" y="36291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6338160" y="4552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"/>
          <p:cNvSpPr/>
          <p:nvPr/>
        </p:nvSpPr>
        <p:spPr>
          <a:xfrm>
            <a:off x="3719880" y="762120"/>
            <a:ext cx="17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一元二次方程根与系数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"/>
          <p:cNvSpPr/>
          <p:nvPr/>
        </p:nvSpPr>
        <p:spPr>
          <a:xfrm>
            <a:off x="952560" y="1325520"/>
            <a:ext cx="723888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方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两个实数根，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)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一元二次方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两个实数根，求下列代数式的值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2)(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)(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795240" y="3228840"/>
            <a:ext cx="8293320" cy="854280"/>
          </a:xfrm>
          <a:prstGeom prst="rect">
            <a:avLst/>
          </a:prstGeom>
          <a:ln w="0">
            <a:noFill/>
          </a:ln>
        </p:spPr>
      </p:pic>
      <p:sp>
        <p:nvSpPr>
          <p:cNvPr id="101" name="矩形 3"/>
          <p:cNvSpPr/>
          <p:nvPr/>
        </p:nvSpPr>
        <p:spPr>
          <a:xfrm>
            <a:off x="2744280" y="182880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3851280" y="3506760"/>
            <a:ext cx="8745480" cy="650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3822840" y="4648320"/>
            <a:ext cx="7912080" cy="923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>
            <a:off x="3719880" y="762120"/>
            <a:ext cx="17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一元二次方程根与系数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"/>
          <p:cNvSpPr/>
          <p:nvPr/>
        </p:nvSpPr>
        <p:spPr>
          <a:xfrm>
            <a:off x="762120" y="1600200"/>
            <a:ext cx="761976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孔明同学在解一元二次方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正确解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关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方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一个根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这个方程的另一个根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关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一元二次方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q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两根分别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那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q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分别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"/>
          <p:cNvSpPr/>
          <p:nvPr/>
        </p:nvSpPr>
        <p:spPr>
          <a:xfrm>
            <a:off x="3945600" y="205740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"/>
          <p:cNvSpPr/>
          <p:nvPr/>
        </p:nvSpPr>
        <p:spPr>
          <a:xfrm>
            <a:off x="2820600" y="306720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4726800" y="3962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"/>
          <p:cNvSpPr/>
          <p:nvPr/>
        </p:nvSpPr>
        <p:spPr>
          <a:xfrm>
            <a:off x="3719880" y="762120"/>
            <a:ext cx="17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一元二次方程根与系数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838080" y="1523880"/>
            <a:ext cx="7620120" cy="35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关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一元二次方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两个不相等的实数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满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那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3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关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一元二次方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两个实数根分别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取值范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"/>
          <p:cNvSpPr/>
          <p:nvPr/>
        </p:nvSpPr>
        <p:spPr>
          <a:xfrm>
            <a:off x="7038720" y="2114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1"/>
          <p:cNvSpPr/>
          <p:nvPr/>
        </p:nvSpPr>
        <p:spPr>
          <a:xfrm>
            <a:off x="3719880" y="762120"/>
            <a:ext cx="17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一元二次方程根与系数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52280" y="2443320"/>
            <a:ext cx="11201400" cy="833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304920" y="3713040"/>
            <a:ext cx="8610480" cy="1011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"/>
          <p:cNvSpPr/>
          <p:nvPr/>
        </p:nvSpPr>
        <p:spPr>
          <a:xfrm>
            <a:off x="3719880" y="762120"/>
            <a:ext cx="17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一元二次方程根与系数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"/>
          <p:cNvSpPr/>
          <p:nvPr/>
        </p:nvSpPr>
        <p:spPr>
          <a:xfrm>
            <a:off x="762120" y="1351080"/>
            <a:ext cx="777240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易错盘点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例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已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是关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的一元二次方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2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)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的两个不相等的实数根，且满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的值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　　　　　　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或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错解】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错因分析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由根与系数关系求得方程中待定系数的值没有通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a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检验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正解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1"/>
          <p:cNvSpPr/>
          <p:nvPr/>
        </p:nvSpPr>
        <p:spPr>
          <a:xfrm>
            <a:off x="3719880" y="762120"/>
            <a:ext cx="17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一元二次方程根与系数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609480" y="1828800"/>
            <a:ext cx="792504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一元二次方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两个根分别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某个一元二次方程时，甲看错了方程的常数项，因而得出的两根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乙看错了方程的一次项的系数，因而得出两根为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或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那么正确的方程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"/>
          <p:cNvSpPr/>
          <p:nvPr/>
        </p:nvSpPr>
        <p:spPr>
          <a:xfrm>
            <a:off x="2844360" y="241920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"/>
          <p:cNvSpPr/>
          <p:nvPr/>
        </p:nvSpPr>
        <p:spPr>
          <a:xfrm>
            <a:off x="3888360" y="4191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fs; d; lg</dc:creator>
  <dc:description/>
  <dc:language>en-US</dc:language>
  <cp:lastModifiedBy>Microsoft</cp:lastModifiedBy>
  <dcterms:modified xsi:type="dcterms:W3CDTF">2015-11-22T05:25:45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